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634-BF0F-42CA-87F1-DC3A6B6F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643-C1F6-4F0B-A6FE-1550E286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8D3-7F02-4477-943F-B0C3B482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F37B-782F-4923-AAB8-C2ABAAD3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6704-1BAE-4496-B73F-D340F2D3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EE1-3FFF-467E-B29A-9A5284A4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1B0-0AF7-4D99-8CD8-9339AB72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C8B9-5F58-4F54-BB65-44B0CB8D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3520-3A1B-4986-A316-8ABFD1A4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91D9-F945-427C-BB37-560EC3A4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CBE-7BDC-430C-BC60-2ADECC85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C841-4289-43B4-998A-ABE0CADB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C29E-8364-435D-A6ED-0E15B3CB79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52280"/>
            <a:ext cx="9296280" cy="47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连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wh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起时间从句时，通常译为“当…时候”。此时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当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nd th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 was working in the garden when I suddenly felt the pain in my stom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Frank was about to leave when he noticed the letter lying on the fl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We were doing our homework when the light went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13:29:47Z</dcterms:created>
  <dc:creator>zhangjunguang</dc:creator>
  <dc:description/>
  <dc:language>en-US</dc:language>
  <cp:lastModifiedBy>zhangjunguang</cp:lastModifiedBy>
  <dcterms:modified xsi:type="dcterms:W3CDTF">2003-08-06T13:39:23Z</dcterms:modified>
  <cp:revision>2</cp:revision>
  <dc:subject/>
  <dc:title>PowerPoint 演示文稿</dc:title>
</cp:coreProperties>
</file>